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002-BEDD-466A-A143-6F63C13C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F85-51B5-4711-B660-83918707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BA4-2ECC-445B-8176-FF1D89D4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142-E262-4F1F-ADAE-F1CA18A9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7F2-5D21-47EB-8367-FAFFAE99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2A8-749B-4632-A430-F49BE460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E85-8EC2-46C5-AD89-2BE8C357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A9F-0BF9-4C7C-B844-CF7EB808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2DD-5CEE-4415-B123-5ACB86A1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AF3-2A74-409E-9BEE-4017625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C5-98B4-4B80-9905-F53C553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E7CC-1F1F-498A-BE66-F3B182FE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E7B2-C9D1-4B4D-8CE2-62FB28B2A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the tune of: my bonny lies over the 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423720"/>
            <a:ext cx="738036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e vois un cochon dans le sal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J’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écoute une souris sous le l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l y a un poisson sur le balc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Et une tortue est sous le tap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 donc, dis don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Chez nous, c’est un peu comme un zo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flipH="1">
            <a:off x="178920" y="3213000"/>
            <a:ext cx="12366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87640" y="3213000"/>
            <a:ext cx="1224000" cy="1024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3357720"/>
            <a:ext cx="1224000" cy="7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667640" y="3429000"/>
            <a:ext cx="10936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404640"/>
            <a:ext cx="76327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l y a un canard dans le pla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chien est dans la salle de b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n perroquet  est sous l’esca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is dis-moi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ù est le lap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-moi, dis-m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s moi où est le lapin, enf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-moi dis-moi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 moi où est le lap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1168560" cy="1412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2555640" y="3068640"/>
            <a:ext cx="1747800" cy="103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51640" y="2492280"/>
            <a:ext cx="1360440" cy="1865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1136520" cy="146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588000" y="6237360"/>
            <a:ext cx="23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381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. Ke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3:14:18Z</dcterms:created>
  <dc:creator>Portables for KS3 Consultants </dc:creator>
  <dc:description/>
  <dc:language>en-US</dc:language>
  <cp:lastModifiedBy>20022714</cp:lastModifiedBy>
  <dcterms:modified xsi:type="dcterms:W3CDTF">2005-10-04T14:59:1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2183431</vt:r8>
  </property>
  <property fmtid="{D5CDD505-2E9C-101B-9397-08002B2CF9AE}" pid="3" name="_AuthorEmail">
    <vt:lpwstr>Chris.Kelly@sheffield.gov.uk</vt:lpwstr>
  </property>
  <property fmtid="{D5CDD505-2E9C-101B-9397-08002B2CF9AE}" pid="4" name="_AuthorEmailDisplayName">
    <vt:lpwstr>Kelly Chris (ED)</vt:lpwstr>
  </property>
  <property fmtid="{D5CDD505-2E9C-101B-9397-08002B2CF9AE}" pid="5" name="_EmailSubject">
    <vt:lpwstr>texts</vt:lpwstr>
  </property>
  <property fmtid="{D5CDD505-2E9C-101B-9397-08002B2CF9AE}" pid="6" name="_ReviewingToolsShownOnce">
    <vt:lpwstr/>
  </property>
</Properties>
</file>